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3D8A-D975-463E-B547-E846DCF9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8EB-8B98-44B9-822B-564A7CF5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FE5C-7118-4E74-836D-4EC4521F6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235-557C-4E5A-A3FF-F2B6BA6F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B564-1B98-4BA1-B93F-3897FDD0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274E-B3EC-40A4-B573-2E7029126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D76-B33F-44C5-A8D5-F63357F51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F9E-286E-48B6-86AC-B26CB3FD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D9BF-D59A-42BF-8F1D-8823B71B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782-E937-46EF-BB14-C233C6F0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7F7-035D-4F11-98FF-07F6DDA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AB3-6F0A-4B79-8CC6-D06C2E56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034-58D5-4313-BAB7-A97B1334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16F-AB2E-4CEE-8FBC-4A3E5E04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6BA-DB2E-4CCB-A582-9968017B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8036-4195-4E1C-8773-EDD9B67F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A2D-2DEC-4143-943C-61D1ED55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6C74-EC37-47F8-9487-6FE7E747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BA36-177B-4F62-BABD-05597A14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533-6F47-40C6-929D-D56E4624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296-4CF5-48B8-BF8C-300E23B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7FAC-50F1-4BDE-B300-EED6505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7C1-AE90-40AC-8D61-F12B932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1F6-9CDB-4113-8A62-DCBB77F8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9031-8A5E-471D-BD68-DF2DA67E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18A-BB15-4FA1-93E0-DB18FE1D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41E6-6B71-4362-8705-31656B3B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DED9-E7C7-4FA4-92A8-3516ECBA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B967-6F18-4EFA-A183-426742E5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C049-86FD-4C0E-8DF4-20B0D382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2E38-7007-4EEA-B2A4-94B059B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198-05C2-4F59-8FFF-30285942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DF8E-D8EB-41CF-9631-CFA5C98E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C323-FAB5-4B05-AC7E-8189342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D07A-4A42-4A7B-B1CA-EF0216C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E639-5EDC-47D8-9FA2-BF5891E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CC37-62A3-48A7-95CC-18C2D67F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7443-13BE-4917-A748-B8BD705D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CAF5-7E44-44CE-9736-D3A132A4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AC6-A63E-4058-A588-E22D2A8D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A40-D4F7-46A2-A6C5-A3F0B00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C76-B5D8-4969-A566-24897AE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900-89EA-4E86-A0BE-5F956AFD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062-458E-4E17-BC23-D0503FE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982-1B7E-4248-B985-E296563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D85-6DA9-4552-B388-D67841C3E4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C04-3079-4FE6-8CF2-8978440925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077-E551-4207-ACC4-9F30367782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Sedgwick</cp:lastModifiedBy>
  <dcterms:modified xsi:type="dcterms:W3CDTF">2011-03-06T23:00:20Z</dcterms:modified>
  <cp:revision>9</cp:revision>
  <dc:subject/>
  <dc:title>All About Me</dc:title>
</cp:coreProperties>
</file>